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B97F-8976-4DAB-BF7D-A044731E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705-5DFF-4EEF-BBD8-070CF98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4D8-D030-4975-8404-43F98581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660-AFC0-4831-89D7-3A895817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38E-D7CC-4A0C-8C44-294B4453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54A-FFC5-4086-97AF-60D6FFD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A9B-A11F-4007-AFE7-E22F50F8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582-251C-4291-8679-FEE7348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DE2-538F-46A1-878D-18099D16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981-8764-4E27-81A5-E08BAA1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5E0-A766-42B0-9820-2F1F6AA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4AE-3E58-47C4-9C16-388C9F8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04AC-C03F-49DD-AE64-B0F61126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2920" y="380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spot”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0911" t="3665" r="0" b="0"/>
          <a:stretch/>
        </p:blipFill>
        <p:spPr>
          <a:xfrm>
            <a:off x="1066680" y="1905120"/>
            <a:ext cx="6705720" cy="238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6160" y="6477120"/>
            <a:ext cx="157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5:131,975,056-132,012,09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0040" y="114300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: gauge enrichment of tags relative to a local background model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number of tags in a 50kb surrounding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905120"/>
            <a:ext cx="7410600" cy="3873240"/>
            <a:chOff x="380880" y="1905120"/>
            <a:chExt cx="7410600" cy="3873240"/>
          </a:xfrm>
        </p:grpSpPr>
        <p:pic>
          <p:nvPicPr>
            <p:cNvPr id="46" name="" descr=""/>
            <p:cNvPicPr/>
            <p:nvPr/>
          </p:nvPicPr>
          <p:blipFill>
            <a:blip r:embed="rId2"/>
            <a:srcRect l="1787" t="3111" r="0" b="0"/>
            <a:stretch/>
          </p:blipFill>
          <p:spPr>
            <a:xfrm>
              <a:off x="380880" y="1905120"/>
              <a:ext cx="7410600" cy="32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755520" y="5410080"/>
              <a:ext cx="273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Hotspots (height = sc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90400" y="26820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Random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895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lots of hotspots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6,752 in random data with same number of tags a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5,433 in observed (G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3108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593800" y="60948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Random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656160" cy="3656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62400" y="5410080"/>
            <a:ext cx="78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iched in promoters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Yes, slightly, since uniquely mappable 27-mers are enriched in promote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10240" y="4648320"/>
            <a:ext cx="156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ance to Tx start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988640" y="2887920"/>
            <a:ext cx="12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tag 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057400" y="1414440"/>
            <a:ext cx="5486040" cy="3005280"/>
            <a:chOff x="2057400" y="1414440"/>
            <a:chExt cx="5486040" cy="30052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rcRect l="11429" t="2830" r="0" b="0"/>
            <a:stretch/>
          </p:blipFill>
          <p:spPr>
            <a:xfrm>
              <a:off x="2127240" y="1414440"/>
              <a:ext cx="541620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74680" y="1816200"/>
              <a:ext cx="349200" cy="19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7400" y="2514960"/>
              <a:ext cx="34920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3214080"/>
              <a:ext cx="34920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3912840"/>
              <a:ext cx="349200" cy="19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989360" y="380880"/>
            <a:ext cx="54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R Calculations Using Random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76880" y="4952880"/>
            <a:ext cx="5603400" cy="727200"/>
            <a:chOff x="1676880" y="4952880"/>
            <a:chExt cx="5603400" cy="727200"/>
          </a:xfrm>
        </p:grpSpPr>
        <p:sp>
          <p:nvSpPr>
            <p:cNvPr id="275" name=""/>
            <p:cNvSpPr/>
            <p:nvPr/>
          </p:nvSpPr>
          <p:spPr>
            <a:xfrm>
              <a:off x="1676880" y="5105520"/>
              <a:ext cx="22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DR(z-score = T)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95640" y="4952880"/>
              <a:ext cx="31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of random peaks with z &gt;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7600" y="52974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22920" y="5311800"/>
              <a:ext cx="335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of observed peaks with z &gt;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98600" y="5904000"/>
            <a:ext cx="84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robably conservative, since numerator is likel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estim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number of false positives in the observ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6040" y="2017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9760" y="34434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14520" y="38088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ing to multiple cell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640" y="106668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a location multi-cell verified (MCV) if hotspot peaks from different cell types overlap there (after fattening peaks to 300b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these MCV zones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-score over the cell type pea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V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a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n identified by looking at the summed density in the z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with multi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sets to get random MCV peaks for FDR calc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59960" y="2819520"/>
            <a:ext cx="7183800" cy="3486600"/>
            <a:chOff x="759960" y="2819520"/>
            <a:chExt cx="7183800" cy="3486600"/>
          </a:xfrm>
        </p:grpSpPr>
        <p:sp>
          <p:nvSpPr>
            <p:cNvPr id="285" name=""/>
            <p:cNvSpPr/>
            <p:nvPr/>
          </p:nvSpPr>
          <p:spPr>
            <a:xfrm>
              <a:off x="4629240" y="4695840"/>
              <a:ext cx="5331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rcRect l="11429" t="26285" r="0" b="0"/>
            <a:stretch/>
          </p:blipFill>
          <p:spPr>
            <a:xfrm>
              <a:off x="2038320" y="5288040"/>
              <a:ext cx="590544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rcRect l="7429" t="5729" r="0" b="0"/>
            <a:stretch/>
          </p:blipFill>
          <p:spPr>
            <a:xfrm>
              <a:off x="1733400" y="2819520"/>
              <a:ext cx="61722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692360" y="324000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81120" y="40100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2480" y="4568760"/>
              <a:ext cx="11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cc00"/>
                  </a:solidFill>
                  <a:latin typeface="Arial"/>
                </a:rPr>
                <a:t>MCV z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8520" y="4695840"/>
              <a:ext cx="6094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960" y="5469120"/>
              <a:ext cx="15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mmed den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43440" y="6143760"/>
              <a:ext cx="15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81520" y="6143760"/>
              <a:ext cx="152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92480" y="6143760"/>
              <a:ext cx="152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22240" y="5999040"/>
              <a:ext cx="110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"/>
                </a:rPr>
                <a:t>MCV pea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35440" y="6477120"/>
            <a:ext cx="218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5:131,585,550-131,597,894 (GM and BJ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2920" y="380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spot”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8640" y="1111320"/>
            <a:ext cx="74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richment is measured as a z-score based on the binomi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90720" y="2133720"/>
            <a:ext cx="7619760" cy="761760"/>
            <a:chOff x="990720" y="2133720"/>
            <a:chExt cx="7619760" cy="761760"/>
          </a:xfrm>
        </p:grpSpPr>
        <p:sp>
          <p:nvSpPr>
            <p:cNvPr id="51" name=""/>
            <p:cNvSpPr/>
            <p:nvPr/>
          </p:nvSpPr>
          <p:spPr>
            <a:xfrm>
              <a:off x="990720" y="2895480"/>
              <a:ext cx="761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7400" y="259056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57400" y="274284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8168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5000" y="274284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14600" y="274284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81916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4756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29200" y="274284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81680" y="259056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572000" y="2133720"/>
              <a:ext cx="380160" cy="685080"/>
              <a:chOff x="4572000" y="2133720"/>
              <a:chExt cx="380160" cy="685080"/>
            </a:xfrm>
          </p:grpSpPr>
          <p:sp>
            <p:nvSpPr>
              <p:cNvPr id="64" name=""/>
              <p:cNvSpPr/>
              <p:nvPr/>
            </p:nvSpPr>
            <p:spPr>
              <a:xfrm>
                <a:off x="4723920" y="259056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876560" y="274284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0" y="2438280"/>
                <a:ext cx="75960" cy="75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72000" y="259056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0" y="274284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23920" y="274284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2000" y="213372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23920" y="2438280"/>
                <a:ext cx="75960" cy="75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72000" y="228564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458200" y="2742840"/>
              <a:ext cx="7560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274284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9720" y="2743200"/>
            <a:ext cx="7596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2590920"/>
            <a:ext cx="75960" cy="7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819520"/>
            <a:ext cx="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819520"/>
            <a:ext cx="0" cy="152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819520"/>
            <a:ext cx="0" cy="152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534520" y="2819520"/>
            <a:ext cx="0" cy="152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71400" y="28954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50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124080"/>
            <a:ext cx="759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90760" y="3124080"/>
            <a:ext cx="759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2040" y="3313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50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505320"/>
            <a:ext cx="350532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505320"/>
            <a:ext cx="3276720" cy="0"/>
          </a:xfrm>
          <a:prstGeom prst="line">
            <a:avLst/>
          </a:prstGeom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5160" y="44640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g in the large window is considered an “experiment,” with probability of success (landing in the smaller windo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609440" y="1562040"/>
            <a:ext cx="152640" cy="990360"/>
          </a:xfrm>
          <a:custGeom>
            <a:avLst/>
            <a:gdLst>
              <a:gd name="textAreaLeft" fmla="*/ 97560 w 152640"/>
              <a:gd name="textAreaRight" fmla="*/ 15300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724280" y="304200"/>
            <a:ext cx="75960" cy="7391520"/>
          </a:xfrm>
          <a:custGeom>
            <a:avLst/>
            <a:gdLst>
              <a:gd name="textAreaLeft" fmla="*/ 48600 w 75960"/>
              <a:gd name="textAreaRight" fmla="*/ 76320 w 75960"/>
              <a:gd name="textAreaTop" fmla="*/ 192600 h 7391520"/>
              <a:gd name="textAreaBottom" fmla="*/ 7198920 h 739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38"/>
                </a:lnTo>
                <a:cubicBezTo>
                  <a:pt x="10800" y="9638"/>
                  <a:pt x="5400" y="10538"/>
                  <a:pt x="0" y="10538"/>
                </a:cubicBezTo>
                <a:cubicBezTo>
                  <a:pt x="5400" y="10538"/>
                  <a:pt x="10800" y="11438"/>
                  <a:pt x="10800" y="123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16765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8880" y="4075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N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30080" y="5119560"/>
            <a:ext cx="40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justed for uniquely mapping b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0280" y="5751360"/>
            <a:ext cx="83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s in the large window, expected number of tags in smaller window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114800" y="6172200"/>
                <a:ext cx="819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124080" y="5086440"/>
                <a:ext cx="11559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≃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02920" y="380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spot”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90720" y="838080"/>
            <a:ext cx="7619760" cy="2766960"/>
            <a:chOff x="990720" y="838080"/>
            <a:chExt cx="7619760" cy="2766960"/>
          </a:xfrm>
        </p:grpSpPr>
        <p:grpSp>
          <p:nvGrpSpPr>
            <p:cNvPr id="98" name=""/>
            <p:cNvGrpSpPr/>
            <p:nvPr/>
          </p:nvGrpSpPr>
          <p:grpSpPr>
            <a:xfrm>
              <a:off x="990720" y="1295280"/>
              <a:ext cx="7619760" cy="761760"/>
              <a:chOff x="990720" y="1295280"/>
              <a:chExt cx="7619760" cy="761760"/>
            </a:xfrm>
          </p:grpSpPr>
          <p:sp>
            <p:nvSpPr>
              <p:cNvPr id="99" name=""/>
              <p:cNvSpPr/>
              <p:nvPr/>
            </p:nvSpPr>
            <p:spPr>
              <a:xfrm>
                <a:off x="990720" y="2057040"/>
                <a:ext cx="761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57400" y="175212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57400" y="190440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8168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715000" y="190440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14600" y="190440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16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756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190440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8128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81680" y="175212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9528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4572000" y="1295280"/>
                <a:ext cx="380160" cy="685080"/>
                <a:chOff x="4572000" y="1295280"/>
                <a:chExt cx="380160" cy="685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723920" y="175212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76560" y="1904400"/>
                  <a:ext cx="7560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572000" y="1599840"/>
                  <a:ext cx="75960" cy="75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572000" y="175212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572000" y="190440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23920" y="190440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72000" y="129528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723920" y="1599840"/>
                  <a:ext cx="75960" cy="75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572000" y="1447200"/>
                  <a:ext cx="75960" cy="75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8458200" y="1904400"/>
                <a:ext cx="7560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38880" y="19044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41972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19720" y="1752480"/>
              <a:ext cx="75960" cy="75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198108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98108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1981080"/>
              <a:ext cx="0" cy="152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34520" y="1981080"/>
              <a:ext cx="0" cy="15228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71400" y="20570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50 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05520" y="2285640"/>
              <a:ext cx="75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0760" y="2285640"/>
              <a:ext cx="75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52040" y="24746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50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9200" y="2666880"/>
              <a:ext cx="35053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666880"/>
              <a:ext cx="32767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609440" y="72360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4724280" y="-533880"/>
              <a:ext cx="75960" cy="73915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2600 h 7391520"/>
                <a:gd name="textAreaBottom" fmla="*/ 7198920 h 73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38"/>
                  </a:lnTo>
                  <a:cubicBezTo>
                    <a:pt x="10800" y="9638"/>
                    <a:pt x="5400" y="10538"/>
                    <a:pt x="0" y="10538"/>
                  </a:cubicBezTo>
                  <a:cubicBezTo>
                    <a:pt x="5400" y="10538"/>
                    <a:pt x="10800" y="11438"/>
                    <a:pt x="10800" y="123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83808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n ta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3236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Arial"/>
                </a:rPr>
                <a:t>N ta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0280" y="3733920"/>
            <a:ext cx="8309880" cy="756720"/>
            <a:chOff x="620280" y="3733920"/>
            <a:chExt cx="8309880" cy="756720"/>
          </a:xfrm>
        </p:grpSpPr>
        <p:sp>
          <p:nvSpPr>
            <p:cNvPr id="140" name=""/>
            <p:cNvSpPr/>
            <p:nvPr/>
          </p:nvSpPr>
          <p:spPr>
            <a:xfrm>
              <a:off x="620280" y="3733920"/>
              <a:ext cx="83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iv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gs in the large window, expected number of tags in smaller window i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4114800" y="4154400"/>
                  <a:ext cx="81900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Np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" name=""/>
          <p:cNvSpPr/>
          <p:nvPr/>
        </p:nvSpPr>
        <p:spPr>
          <a:xfrm>
            <a:off x="540360" y="4532400"/>
            <a:ext cx="83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dard deviation for the expected number of tags in the smaller window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05320" y="4870440"/>
                <a:ext cx="1828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844200" y="5410080"/>
            <a:ext cx="75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z-score for the observed number of tags in the smaller window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86200" y="5689440"/>
                <a:ext cx="12193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02920" y="380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spot”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1295280"/>
            <a:ext cx="7619760" cy="762120"/>
            <a:chOff x="990720" y="1295280"/>
            <a:chExt cx="7619760" cy="762120"/>
          </a:xfrm>
        </p:grpSpPr>
        <p:sp>
          <p:nvSpPr>
            <p:cNvPr id="148" name=""/>
            <p:cNvSpPr/>
            <p:nvPr/>
          </p:nvSpPr>
          <p:spPr>
            <a:xfrm>
              <a:off x="990720" y="2057400"/>
              <a:ext cx="761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7400" y="175248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7400" y="190476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8168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15000" y="190476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190476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1916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56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9200" y="190476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128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175248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4572000" y="1295280"/>
              <a:ext cx="380160" cy="685800"/>
              <a:chOff x="4572000" y="1295280"/>
              <a:chExt cx="380160" cy="685800"/>
            </a:xfrm>
          </p:grpSpPr>
          <p:sp>
            <p:nvSpPr>
              <p:cNvPr id="161" name=""/>
              <p:cNvSpPr/>
              <p:nvPr/>
            </p:nvSpPr>
            <p:spPr>
              <a:xfrm>
                <a:off x="4723920" y="175248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76560" y="1904760"/>
                <a:ext cx="7560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572000" y="16002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2000" y="175248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0" y="19047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723920" y="19047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2000" y="129528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3920" y="1600200"/>
                <a:ext cx="75960" cy="759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72000" y="1447560"/>
                <a:ext cx="7596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458200" y="1904760"/>
              <a:ext cx="7560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1904760"/>
              <a:ext cx="75960" cy="7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419720" y="1905120"/>
            <a:ext cx="75960" cy="7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752480"/>
            <a:ext cx="7596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86856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g gets a z-score for the 250bp and 50kb windows centered o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sp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ccession of tags within a 250bp window, each of whose z-score is greater than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otspot is scored with the z-score for the 250bp window centered on those ta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22096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50160" y="23986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058480" y="38088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different kinds of hot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1640" y="1560600"/>
            <a:ext cx="19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y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56640" y="3808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ed hot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1066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 regions of very high enrichment can inflate the background for neighboring regions, deflating z-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0840" y="2354400"/>
            <a:ext cx="6127560" cy="769680"/>
            <a:chOff x="1320840" y="2354400"/>
            <a:chExt cx="6127560" cy="7696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rcRect l="8859" t="11171" r="0" b="0"/>
            <a:stretch/>
          </p:blipFill>
          <p:spPr>
            <a:xfrm>
              <a:off x="1371600" y="2354400"/>
              <a:ext cx="607680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320840" y="2582640"/>
              <a:ext cx="5335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50320" y="6448320"/>
            <a:ext cx="117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1:604,351-609,3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3941640"/>
            <a:ext cx="6058080" cy="782640"/>
            <a:chOff x="1371600" y="3941640"/>
            <a:chExt cx="6058080" cy="78264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rcRect l="10285" t="9718" r="0" b="0"/>
            <a:stretch/>
          </p:blipFill>
          <p:spPr>
            <a:xfrm>
              <a:off x="1447920" y="3941640"/>
              <a:ext cx="5981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371600" y="423864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52280" y="3917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as above, resc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4876920"/>
            <a:ext cx="0" cy="45720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would be highly significant in isolation, but are missed due to shadowing by the mon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335268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356640" y="3808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dowed hot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0666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 implement a two-pass hotspot detection sch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44792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first pass of hotspo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ll tags falling in the first-pass hot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new hotspots with delete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hotspots from first and second passes, and re-score all using the deleted background:  all 50kb windows will only include tags from deleted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7010280"/>
            <a:ext cx="304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8600" y="3560760"/>
            <a:ext cx="7273080" cy="2992320"/>
            <a:chOff x="498600" y="3560760"/>
            <a:chExt cx="7273080" cy="2992320"/>
          </a:xfrm>
        </p:grpSpPr>
        <p:grpSp>
          <p:nvGrpSpPr>
            <p:cNvPr id="202" name=""/>
            <p:cNvGrpSpPr/>
            <p:nvPr/>
          </p:nvGrpSpPr>
          <p:grpSpPr>
            <a:xfrm>
              <a:off x="1714320" y="5694120"/>
              <a:ext cx="6057360" cy="782280"/>
              <a:chOff x="1714320" y="5694120"/>
              <a:chExt cx="6057360" cy="782280"/>
            </a:xfrm>
          </p:grpSpPr>
          <p:pic>
            <p:nvPicPr>
              <p:cNvPr id="203" name="" descr=""/>
              <p:cNvPicPr/>
              <p:nvPr/>
            </p:nvPicPr>
            <p:blipFill>
              <a:blip r:embed="rId1"/>
              <a:srcRect l="10285" t="9718" r="0" b="0"/>
              <a:stretch/>
            </p:blipFill>
            <p:spPr>
              <a:xfrm>
                <a:off x="1790280" y="5694120"/>
                <a:ext cx="5981400" cy="78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714320" y="5990760"/>
                <a:ext cx="456840" cy="15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346360" y="4489200"/>
              <a:ext cx="761760" cy="83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833400" y="3560760"/>
              <a:ext cx="6899760" cy="858600"/>
              <a:chOff x="833400" y="3560760"/>
              <a:chExt cx="6899760" cy="8586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1675800" y="3560760"/>
                <a:ext cx="6057360" cy="782280"/>
                <a:chOff x="1675800" y="3560760"/>
                <a:chExt cx="6057360" cy="782280"/>
              </a:xfrm>
            </p:grpSpPr>
            <p:pic>
              <p:nvPicPr>
                <p:cNvPr id="208" name="" descr=""/>
                <p:cNvPicPr/>
                <p:nvPr/>
              </p:nvPicPr>
              <p:blipFill>
                <a:blip r:embed="rId2"/>
                <a:srcRect l="10285" t="9718" r="0" b="0"/>
                <a:stretch/>
              </p:blipFill>
              <p:spPr>
                <a:xfrm>
                  <a:off x="1751760" y="3560760"/>
                  <a:ext cx="5981400" cy="78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>
                  <a:off x="1675800" y="3857400"/>
                  <a:ext cx="456840" cy="151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833400" y="3769920"/>
                <a:ext cx="87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Pass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71560" y="4419360"/>
                <a:ext cx="609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98600" y="4551120"/>
              <a:ext cx="7234920" cy="782280"/>
              <a:chOff x="498600" y="4551120"/>
              <a:chExt cx="7234920" cy="78228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676160" y="4551120"/>
                <a:ext cx="6057360" cy="782280"/>
                <a:chOff x="1676160" y="4551120"/>
                <a:chExt cx="6057360" cy="782280"/>
              </a:xfrm>
            </p:grpSpPr>
            <p:pic>
              <p:nvPicPr>
                <p:cNvPr id="214" name="" descr=""/>
                <p:cNvPicPr/>
                <p:nvPr/>
              </p:nvPicPr>
              <p:blipFill>
                <a:blip r:embed="rId3"/>
                <a:srcRect l="10285" t="9718" r="0" b="0"/>
                <a:stretch/>
              </p:blipFill>
              <p:spPr>
                <a:xfrm>
                  <a:off x="1752120" y="4551120"/>
                  <a:ext cx="5981400" cy="78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1676160" y="4847760"/>
                  <a:ext cx="456840" cy="151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98600" y="4571280"/>
                <a:ext cx="137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ckgrou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877680" y="58273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ass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71520" y="6553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52400" y="6553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8200" y="6553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95400" y="6553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09800" y="6553080"/>
              <a:ext cx="761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38600" y="6553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440" y="6553080"/>
              <a:ext cx="456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351400" y="4478400"/>
            <a:ext cx="685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02160" y="5630760"/>
            <a:ext cx="6858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56080" y="380880"/>
            <a:ext cx="61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spots are robust to regions of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8080" y="1523880"/>
            <a:ext cx="6781680" cy="1218960"/>
            <a:chOff x="838080" y="1523880"/>
            <a:chExt cx="6781680" cy="121896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rcRect l="8163" t="10631" r="0" b="0"/>
            <a:stretch/>
          </p:blipFill>
          <p:spPr>
            <a:xfrm>
              <a:off x="838080" y="1523880"/>
              <a:ext cx="67816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838080" y="2003400"/>
              <a:ext cx="590760" cy="35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59840" y="6200640"/>
            <a:ext cx="1572120" cy="658440"/>
            <a:chOff x="159840" y="6200640"/>
            <a:chExt cx="1572120" cy="658440"/>
          </a:xfrm>
        </p:grpSpPr>
        <p:sp>
          <p:nvSpPr>
            <p:cNvPr id="232" name=""/>
            <p:cNvSpPr/>
            <p:nvPr/>
          </p:nvSpPr>
          <p:spPr>
            <a:xfrm>
              <a:off x="159840" y="6200640"/>
              <a:ext cx="157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r8:129,897,976-130,347,97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9840" y="6643440"/>
              <a:ext cx="157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r8:130,151,726-130,201,7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9840" y="6414840"/>
              <a:ext cx="157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r8:129,904,851-129,979,8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2"/>
          <a:srcRect l="16282" t="4966" r="0" b="0"/>
          <a:stretch/>
        </p:blipFill>
        <p:spPr>
          <a:xfrm>
            <a:off x="623880" y="3962520"/>
            <a:ext cx="4100400" cy="1066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16482" t="5603" r="0" b="0"/>
          <a:stretch/>
        </p:blipFill>
        <p:spPr>
          <a:xfrm>
            <a:off x="5187960" y="3941640"/>
            <a:ext cx="3803760" cy="1055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H="1">
            <a:off x="990720" y="2819520"/>
            <a:ext cx="1218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2819520"/>
            <a:ext cx="1904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57440" y="2819520"/>
            <a:ext cx="228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15000" y="2819520"/>
            <a:ext cx="2971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0" y="46483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alled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height = z-s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4952880"/>
            <a:ext cx="3812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8320" y="4952880"/>
            <a:ext cx="3808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53280" y="4925880"/>
            <a:ext cx="588960" cy="64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53560" y="5486400"/>
            <a:ext cx="51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parate peak heights, but comparable z-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84520" y="45720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828800" y="2133720"/>
            <a:ext cx="5981760" cy="3276360"/>
            <a:chOff x="1828800" y="2133720"/>
            <a:chExt cx="5981760" cy="327636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rcRect l="11429" t="2830" r="0" b="0"/>
            <a:stretch/>
          </p:blipFill>
          <p:spPr>
            <a:xfrm>
              <a:off x="1905120" y="2133720"/>
              <a:ext cx="5905440" cy="32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847880" y="2571840"/>
              <a:ext cx="38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3333600"/>
              <a:ext cx="3808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28800" y="4095720"/>
              <a:ext cx="3808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8800" y="4857840"/>
              <a:ext cx="38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85800" y="990720"/>
            <a:ext cx="795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null model for doing FDR calculations, we generate tags uniformly over the uniquely mappable (for 27-mers) bases of the genome. We use the same number of tags for observed and rand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80" y="253836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d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3520" y="41590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14360" y="5715000"/>
            <a:ext cx="469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ndom data still coalesce into hotsp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7360" y="332100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bserved hot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0760" y="4952880"/>
            <a:ext cx="17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andom hot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16:41Z</dcterms:created>
  <dc:creator>Robert Thurman</dc:creator>
  <dc:description/>
  <dc:language>en-US</dc:language>
  <cp:lastModifiedBy>rthurman</cp:lastModifiedBy>
  <dcterms:modified xsi:type="dcterms:W3CDTF">2008-02-15T09:09:24Z</dcterms:modified>
  <cp:revision>17</cp:revision>
  <dc:subject/>
  <dc:title>Slide 1</dc:title>
</cp:coreProperties>
</file>